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C008-C954-4C75-9AF1-08F75E284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0A39-5620-4345-8AB0-89983A29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A775-ECBF-4913-9FD4-9F89D7C55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314A-26F9-4068-B8E9-6D0906FA1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AF19-7368-4198-875B-C9F82A33E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77C9-CDC2-4A6C-AE18-CF341D4E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7BA7-7C08-4D34-A556-5B0AC7D3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FBBD-471D-4882-B36C-91609AD3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AD5D-699F-487A-B289-73DB0279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4079-6AD8-4D91-9D34-3CD93932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6FA9-3B8A-4CD3-8CC7-D19826A8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14EA-A675-4FA1-95B3-821387A4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5124-B018-4904-8E5B-433C3631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7A2D-A283-4FEC-8744-F0C683D7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5B25-9667-4AEE-845E-4F2AEE1D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4AAD-5B6A-454F-B118-033A6940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F9E2-9540-4300-BCE4-8A3F21FB9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5E10-3473-46AC-A11C-EEAF53D5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3A92-DCA8-4A99-B11E-8E558BFE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EE00-DAB3-4BF6-A9D1-9DDC41B0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0632-4FA8-4196-8BD4-EFC0D80E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BFBE-F93B-44CC-A2F9-81B24346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B482-ADF1-46F5-9981-52468E88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6FA0-9B24-4C85-BD6C-51C87972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240"/>
              <a:ext cx="2869560" cy="2268720"/>
              <a:chOff x="6274080" y="-21240"/>
              <a:chExt cx="2869560" cy="226872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240"/>
                <a:ext cx="2866320" cy="2268720"/>
                <a:chOff x="6274080" y="-21240"/>
                <a:chExt cx="2866320" cy="226872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3960" y="843120"/>
                  <a:ext cx="1063440" cy="1141200"/>
                  <a:chOff x="7833960" y="843120"/>
                  <a:chExt cx="1063440" cy="114120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59800" y="1133640"/>
                    <a:ext cx="886680" cy="160920"/>
                  </a:xfrm>
                  <a:custGeom>
                    <a:avLst/>
                    <a:gdLst>
                      <a:gd name="textAreaLeft" fmla="*/ 0 w 886680"/>
                      <a:gd name="textAreaRight" fmla="*/ 887040 w 88668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8160" y="1604520"/>
                    <a:ext cx="469800" cy="249840"/>
                  </a:xfrm>
                  <a:custGeom>
                    <a:avLst/>
                    <a:gdLst>
                      <a:gd name="textAreaLeft" fmla="*/ 0 w 469800"/>
                      <a:gd name="textAreaRight" fmla="*/ 470160 w 46980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>
                      <a:gd name="textAreaLeft" fmla="*/ 0 w 861480"/>
                      <a:gd name="textAreaRight" fmla="*/ 861840 w 86148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>
                      <a:gd name="textAreaLeft" fmla="*/ 0 w 456840"/>
                      <a:gd name="textAreaRight" fmla="*/ 457200 w 456840"/>
                      <a:gd name="textAreaTop" fmla="*/ 0 h 263520"/>
                      <a:gd name="textAreaBottom" fmla="*/ 263880 h 26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240"/>
                  <a:chOff x="7852320" y="657720"/>
                  <a:chExt cx="1223640" cy="41724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740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7400"/>
                      <a:gd name="textAreaBottom" fmla="*/ 167760 h 167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6040" y="799200"/>
                    <a:ext cx="425160" cy="24840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48400"/>
                      <a:gd name="textAreaBottom" fmla="*/ 248760 h 24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760"/>
                  <a:ext cx="984240" cy="326880"/>
                  <a:chOff x="7845840" y="419760"/>
                  <a:chExt cx="98424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720"/>
                    <a:ext cx="633960" cy="106920"/>
                  </a:xfrm>
                  <a:custGeom>
                    <a:avLst/>
                    <a:gdLst>
                      <a:gd name="textAreaLeft" fmla="*/ 0 w 633960"/>
                      <a:gd name="textAreaRight" fmla="*/ 634320 w 633960"/>
                      <a:gd name="textAreaTop" fmla="*/ 0 h 106920"/>
                      <a:gd name="textAreaBottom" fmla="*/ 107280 h 106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5840" y="456120"/>
                    <a:ext cx="338040" cy="177480"/>
                  </a:xfrm>
                  <a:custGeom>
                    <a:avLst/>
                    <a:gdLst>
                      <a:gd name="textAreaLeft" fmla="*/ 0 w 338040"/>
                      <a:gd name="textAreaRight" fmla="*/ 338400 w 338040"/>
                      <a:gd name="textAreaTop" fmla="*/ 0 h 177480"/>
                      <a:gd name="textAreaBottom" fmla="*/ 177840 h 1774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040" y="906120"/>
                  <a:ext cx="1062360" cy="1142280"/>
                  <a:chOff x="6539040" y="906120"/>
                  <a:chExt cx="1062360" cy="114228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5360" y="1195200"/>
                    <a:ext cx="880200" cy="156960"/>
                  </a:xfrm>
                  <a:custGeom>
                    <a:avLst/>
                    <a:gdLst>
                      <a:gd name="textAreaLeft" fmla="*/ -360 w 880200"/>
                      <a:gd name="textAreaRight" fmla="*/ 880200 w 880200"/>
                      <a:gd name="textAreaTop" fmla="*/ 0 h 156960"/>
                      <a:gd name="textAreaBottom" fmla="*/ 157320 h 156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840" y="1665000"/>
                    <a:ext cx="471600" cy="253440"/>
                  </a:xfrm>
                  <a:custGeom>
                    <a:avLst/>
                    <a:gdLst>
                      <a:gd name="textAreaLeft" fmla="*/ 360 w 471600"/>
                      <a:gd name="textAreaRight" fmla="*/ 472320 w 471600"/>
                      <a:gd name="textAreaTop" fmla="*/ 0 h 253440"/>
                      <a:gd name="textAreaBottom" fmla="*/ 253800 h 253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>
                      <a:gd name="textAreaLeft" fmla="*/ -360 w 928440"/>
                      <a:gd name="textAreaRight" fmla="*/ 928440 w 928440"/>
                      <a:gd name="textAreaTop" fmla="*/ 0 h 178200"/>
                      <a:gd name="textAreaBottom" fmla="*/ 178560 h 178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8040"/>
                      <a:gd name="textAreaBottom" fmla="*/ 158400 h 1580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39040"/>
                      <a:gd name="textAreaBottom" fmla="*/ 239400 h 2390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69200"/>
                      <a:gd name="textAreaBottom" fmla="*/ 169560 h 169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66400"/>
                      <a:gd name="textAreaBottom" fmla="*/ 266760 h 266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6240"/>
                      <a:gd name="textAreaBottom" fmla="*/ 156600 h 156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>
                      <a:gd name="textAreaLeft" fmla="*/ -360 w 634680"/>
                      <a:gd name="textAreaRight" fmla="*/ 634680 w 634680"/>
                      <a:gd name="textAreaTop" fmla="*/ 0 h 108720"/>
                      <a:gd name="textAreaBottom" fmla="*/ 109080 h 108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>
                      <a:gd name="textAreaLeft" fmla="*/ -360 w 341640"/>
                      <a:gd name="textAreaRight" fmla="*/ 341640 w 341640"/>
                      <a:gd name="textAreaTop" fmla="*/ 0 h 169560"/>
                      <a:gd name="textAreaBottom" fmla="*/ 169560 h 169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>
                      <a:gd name="textAreaLeft" fmla="*/ 0 w 540360"/>
                      <a:gd name="textAreaRight" fmla="*/ 540360 w 54036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>
                      <a:gd name="textAreaLeft" fmla="*/ 360 w 295920"/>
                      <a:gd name="textAreaRight" fmla="*/ 296640 w 29592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>
                      <a:gd name="textAreaLeft" fmla="*/ 0 w 630360"/>
                      <a:gd name="textAreaRight" fmla="*/ 630720 w 63036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>
                      <a:gd name="textAreaLeft" fmla="*/ 0 w 331560"/>
                      <a:gd name="textAreaRight" fmla="*/ 331560 w 33156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>
                      <a:gd name="textAreaLeft" fmla="*/ 0 w 636120"/>
                      <a:gd name="textAreaRight" fmla="*/ 636480 w 63612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>
                      <a:gd name="textAreaLeft" fmla="*/ 0 w 334800"/>
                      <a:gd name="textAreaRight" fmla="*/ 334800 w 33480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>
                      <a:gd name="textAreaLeft" fmla="*/ 0 w 541800"/>
                      <a:gd name="textAreaRight" fmla="*/ 542160 w 541800"/>
                      <a:gd name="textAreaTop" fmla="*/ 0 h 95040"/>
                      <a:gd name="textAreaBottom" fmla="*/ 95400 h 950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>
                      <a:gd name="textAreaLeft" fmla="*/ 0 w 294120"/>
                      <a:gd name="textAreaRight" fmla="*/ 294480 w 29412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480" y="930600"/>
                  <a:ext cx="915120" cy="1247400"/>
                  <a:chOff x="6711480" y="930600"/>
                  <a:chExt cx="915120" cy="12474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3320" y="1260360"/>
                    <a:ext cx="894240" cy="160560"/>
                  </a:xfrm>
                  <a:custGeom>
                    <a:avLst/>
                    <a:gdLst>
                      <a:gd name="textAreaLeft" fmla="*/ 360 w 894240"/>
                      <a:gd name="textAreaRight" fmla="*/ 894960 w 89424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760"/>
                    <a:ext cx="473400" cy="250200"/>
                  </a:xfrm>
                  <a:custGeom>
                    <a:avLst/>
                    <a:gdLst>
                      <a:gd name="textAreaLeft" fmla="*/ -360 w 473400"/>
                      <a:gd name="textAreaRight" fmla="*/ 473400 w 473400"/>
                      <a:gd name="textAreaTop" fmla="*/ 0 h 250200"/>
                      <a:gd name="textAreaBottom" fmla="*/ 250560 h 250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560"/>
                  <a:ext cx="618840" cy="1247760"/>
                  <a:chOff x="7014960" y="979560"/>
                  <a:chExt cx="618840" cy="124776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7240" y="1312200"/>
                    <a:ext cx="827640" cy="160920"/>
                  </a:xfrm>
                  <a:custGeom>
                    <a:avLst/>
                    <a:gdLst>
                      <a:gd name="textAreaLeft" fmla="*/ -360 w 827640"/>
                      <a:gd name="textAreaRight" fmla="*/ 827640 w 82764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>
                      <a:gd name="textAreaLeft" fmla="*/ 360 w 438480"/>
                      <a:gd name="textAreaRight" fmla="*/ 439200 w 438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320" y="1001160"/>
                  <a:ext cx="363240" cy="1217160"/>
                  <a:chOff x="7312320" y="1001160"/>
                  <a:chExt cx="363240" cy="121716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0760" y="1878120"/>
                    <a:ext cx="422280" cy="222120"/>
                  </a:xfrm>
                  <a:custGeom>
                    <a:avLst/>
                    <a:gdLst>
                      <a:gd name="textAreaLeft" fmla="*/ -360 w 422280"/>
                      <a:gd name="textAreaRight" fmla="*/ 422280 w 422280"/>
                      <a:gd name="textAreaTop" fmla="*/ 0 h 222120"/>
                      <a:gd name="textAreaBottom" fmla="*/ 222480 h 222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custGeom>
                    <a:avLst/>
                    <a:gdLst>
                      <a:gd name="textAreaLeft" fmla="*/ 0 w 455040"/>
                      <a:gd name="textAreaRight" fmla="*/ 455400 w 45504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480" cy="1242360"/>
                  <a:chOff x="7756920" y="1005120"/>
                  <a:chExt cx="51048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5160" y="1352880"/>
                    <a:ext cx="824040" cy="125280"/>
                  </a:xfrm>
                  <a:custGeom>
                    <a:avLst/>
                    <a:gdLst>
                      <a:gd name="textAreaLeft" fmla="*/ 0 w 824040"/>
                      <a:gd name="textAreaRight" fmla="*/ 824400 w 8240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360" cy="198360"/>
                  </a:xfrm>
                  <a:custGeom>
                    <a:avLst/>
                    <a:gdLst>
                      <a:gd name="textAreaLeft" fmla="*/ 0 w 441360"/>
                      <a:gd name="textAreaRight" fmla="*/ 441720 w 44136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>
                      <a:gd name="textAreaLeft" fmla="*/ 0 w 751320"/>
                      <a:gd name="textAreaRight" fmla="*/ 751680 w 751320"/>
                      <a:gd name="textAreaTop" fmla="*/ 0 h 126720"/>
                      <a:gd name="textAreaBottom" fmla="*/ 127080 h 126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>
                      <a:gd name="textAreaLeft" fmla="*/ 0 w 408600"/>
                      <a:gd name="textAreaRight" fmla="*/ 408960 w 40860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7200" cy="1131480"/>
                  <a:chOff x="7500240" y="1077840"/>
                  <a:chExt cx="27720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19160" y="1404720"/>
                    <a:ext cx="744480" cy="95760"/>
                  </a:xfrm>
                  <a:custGeom>
                    <a:avLst/>
                    <a:gdLst>
                      <a:gd name="textAreaLeft" fmla="*/ 0 w 744480"/>
                      <a:gd name="textAreaRight" fmla="*/ 744840 w 74448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6560" y="1927080"/>
                    <a:ext cx="398880" cy="151560"/>
                  </a:xfrm>
                  <a:custGeom>
                    <a:avLst/>
                    <a:gdLst>
                      <a:gd name="textAreaLeft" fmla="*/ 0 w 398880"/>
                      <a:gd name="textAreaRight" fmla="*/ 399240 w 398880"/>
                      <a:gd name="textAreaTop" fmla="*/ 0 h 151560"/>
                      <a:gd name="textAreaBottom" fmla="*/ 151920 h 151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>
                  <a:gd name="textAreaLeft" fmla="*/ 360 w 1088640"/>
                  <a:gd name="textAreaRight" fmla="*/ 1089360 w 1088640"/>
                  <a:gd name="textAreaTop" fmla="*/ 0 h 1177920"/>
                  <a:gd name="textAreaBottom" fmla="*/ 1178280 h 11779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>
                  <a:gd name="textAreaLeft" fmla="*/ -360 w 634680"/>
                  <a:gd name="textAreaRight" fmla="*/ 634680 w 634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4640"/>
                  <a:gd name="textAreaBottom" fmla="*/ 1215000 h 121464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>
                  <a:gd name="textAreaLeft" fmla="*/ 0 w 730080"/>
                  <a:gd name="textAreaRight" fmla="*/ 730440 w 730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-360 h 426600"/>
                  <a:gd name="textAreaBottom" fmla="*/ 426600 h 426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76480"/>
                  <a:gd name="textAreaBottom" fmla="*/ 1176840 h 11764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1179000"/>
                  <a:gd name="textAreaBottom" fmla="*/ 1179360 h 117900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5760"/>
                  <a:gd name="textAreaBottom" fmla="*/ 546120 h 545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1520"/>
                  <a:gd name="textAreaBottom" fmla="*/ 731880 h 7315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5153-4C78-4545-8C97-689C2D04E18A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5800" cy="5451840"/>
            <a:chOff x="2010960" y="245520"/>
            <a:chExt cx="6895800" cy="545184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5760"/>
                <a:ext cx="23040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5800" cy="5451840"/>
              <a:chOff x="2010960" y="245520"/>
              <a:chExt cx="6895800" cy="545184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120" y="2235240"/>
                    <a:ext cx="712800" cy="50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440" y="2322720"/>
                    <a:ext cx="2558160" cy="2742480"/>
                    <a:chOff x="5761440" y="2322720"/>
                    <a:chExt cx="2558160" cy="274248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600" y="3020760"/>
                      <a:ext cx="2128320" cy="384480"/>
                    </a:xfrm>
                    <a:custGeom>
                      <a:avLst/>
                      <a:gdLst>
                        <a:gd name="textAreaLeft" fmla="*/ 0 w 2128320"/>
                        <a:gd name="textAreaRight" fmla="*/ 2128680 w 212832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840" y="4146120"/>
                      <a:ext cx="1138320" cy="604080"/>
                    </a:xfrm>
                    <a:custGeom>
                      <a:avLst/>
                      <a:gdLst>
                        <a:gd name="textAreaLeft" fmla="*/ 0 w 1138320"/>
                        <a:gd name="textAreaRight" fmla="*/ 1138680 w 113832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8080" y="2148120"/>
                    <a:ext cx="3040200" cy="2530080"/>
                    <a:chOff x="5788080" y="2148120"/>
                    <a:chExt cx="3040200" cy="253008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1840"/>
                      <a:ext cx="2236680" cy="42480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4800"/>
                        <a:gd name="textAreaBottom" fmla="*/ 425160 h 424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1640" y="3720600"/>
                      <a:ext cx="1202040" cy="673200"/>
                    </a:xfrm>
                    <a:custGeom>
                      <a:avLst/>
                      <a:gdLst>
                        <a:gd name="textAreaLeft" fmla="*/ 0 w 1202040"/>
                        <a:gd name="textAreaRight" fmla="*/ 1202400 w 1202040"/>
                        <a:gd name="textAreaTop" fmla="*/ 0 h 673200"/>
                        <a:gd name="textAreaBottom" fmla="*/ 673560 h 6732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>
                        <a:gd name="textAreaLeft" fmla="*/ 0 w 2139480"/>
                        <a:gd name="textAreaRight" fmla="*/ 2139840 w 213948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560"/>
                    <a:ext cx="2940120" cy="1001880"/>
                    <a:chOff x="5806080" y="187956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7640" cy="384480"/>
                    </a:xfrm>
                    <a:custGeom>
                      <a:avLst/>
                      <a:gdLst>
                        <a:gd name="textAreaLeft" fmla="*/ 0 w 1907640"/>
                        <a:gd name="textAreaRight" fmla="*/ 1908000 w 19076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8160" y="2212920"/>
                      <a:ext cx="1022040" cy="602640"/>
                    </a:xfrm>
                    <a:custGeom>
                      <a:avLst/>
                      <a:gdLst>
                        <a:gd name="textAreaLeft" fmla="*/ 0 w 1022040"/>
                        <a:gd name="textAreaRight" fmla="*/ 1022400 w 102204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5480"/>
                    <a:ext cx="2658960" cy="446040"/>
                    <a:chOff x="5851080" y="1815480"/>
                    <a:chExt cx="265896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52560"/>
                      <a:ext cx="1730880" cy="27108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1080"/>
                        <a:gd name="textAreaBottom" fmla="*/ 271440 h 2710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3760" cy="786960"/>
                    <a:chOff x="5788440" y="1303920"/>
                    <a:chExt cx="2363760" cy="78696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520" y="1651680"/>
                      <a:ext cx="1519200" cy="266760"/>
                    </a:xfrm>
                    <a:custGeom>
                      <a:avLst/>
                      <a:gdLst>
                        <a:gd name="textAreaLeft" fmla="*/ 0 w 1519200"/>
                        <a:gd name="textAreaRight" fmla="*/ 1519560 w 1519200"/>
                        <a:gd name="textAreaTop" fmla="*/ 0 h 266760"/>
                        <a:gd name="textAreaBottom" fmla="*/ 267120 h 266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544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5560"/>
                    <a:ext cx="3040200" cy="2531880"/>
                    <a:chOff x="2085120" y="2365560"/>
                    <a:chExt cx="3040200" cy="25318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6040" y="2969640"/>
                      <a:ext cx="2239200" cy="427320"/>
                    </a:xfrm>
                    <a:custGeom>
                      <a:avLst/>
                      <a:gdLst>
                        <a:gd name="textAreaLeft" fmla="*/ 0 w 2239200"/>
                        <a:gd name="textAreaRight" fmla="*/ 2239200 w 2239200"/>
                        <a:gd name="textAreaTop" fmla="*/ 0 h 427320"/>
                        <a:gd name="textAreaBottom" fmla="*/ 427680 h 427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280" y="3939120"/>
                      <a:ext cx="1204920" cy="672840"/>
                    </a:xfrm>
                    <a:custGeom>
                      <a:avLst/>
                      <a:gdLst>
                        <a:gd name="textAreaLeft" fmla="*/ -360 w 1204920"/>
                        <a:gd name="textAreaRight" fmla="*/ 1204920 w 1204920"/>
                        <a:gd name="textAreaTop" fmla="*/ 0 h 672840"/>
                        <a:gd name="textAreaBottom" fmla="*/ 673200 h 672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1200" y="2283840"/>
                    <a:ext cx="3096360" cy="1992600"/>
                    <a:chOff x="2041200" y="228384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5080" y="2739600"/>
                      <a:ext cx="2139840" cy="375840"/>
                    </a:xfrm>
                    <a:custGeom>
                      <a:avLst/>
                      <a:gdLst>
                        <a:gd name="textAreaLeft" fmla="*/ 360 w 2139840"/>
                        <a:gd name="textAreaRight" fmla="*/ 2140560 w 2139840"/>
                        <a:gd name="textAreaTop" fmla="*/ 0 h 375840"/>
                        <a:gd name="textAreaBottom" fmla="*/ 376200 h 37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400" y="3465360"/>
                      <a:ext cx="1150560" cy="585720"/>
                    </a:xfrm>
                    <a:custGeom>
                      <a:avLst/>
                      <a:gdLst>
                        <a:gd name="textAreaLeft" fmla="*/ 360 w 1150560"/>
                        <a:gd name="textAreaRight" fmla="*/ 1151280 w 1150560"/>
                        <a:gd name="textAreaTop" fmla="*/ 0 h 585720"/>
                        <a:gd name="textAreaBottom" fmla="*/ 585720 h 585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8120"/>
                    <a:chOff x="2010960" y="2188440"/>
                    <a:chExt cx="3134160" cy="16081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240" y="2497680"/>
                      <a:ext cx="2067840" cy="41436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4360"/>
                        <a:gd name="textAreaBottom" fmla="*/ 414720 h 4143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400" y="2988360"/>
                      <a:ext cx="1112040" cy="652320"/>
                    </a:xfrm>
                    <a:custGeom>
                      <a:avLst/>
                      <a:gdLst>
                        <a:gd name="textAreaLeft" fmla="*/ -360 w 1112040"/>
                        <a:gd name="textAreaRight" fmla="*/ 1112040 w 1112040"/>
                        <a:gd name="textAreaTop" fmla="*/ 0 h 652320"/>
                        <a:gd name="textAreaBottom" fmla="*/ 652320 h 652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480" y="2097720"/>
                    <a:ext cx="2940840" cy="1002240"/>
                    <a:chOff x="2166480" y="209772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2400" y="2223720"/>
                      <a:ext cx="1907280" cy="386640"/>
                    </a:xfrm>
                    <a:custGeom>
                      <a:avLst/>
                      <a:gdLst>
                        <a:gd name="textAreaLeft" fmla="*/ 360 w 1907280"/>
                        <a:gd name="textAreaRight" fmla="*/ 1908000 w 1907280"/>
                        <a:gd name="textAreaTop" fmla="*/ 0 h 386640"/>
                        <a:gd name="textAreaBottom" fmla="*/ 387000 h 386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120" y="2430360"/>
                      <a:ext cx="1022040" cy="603360"/>
                    </a:xfrm>
                    <a:custGeom>
                      <a:avLst/>
                      <a:gdLst>
                        <a:gd name="textAreaLeft" fmla="*/ -360 w 1022040"/>
                        <a:gd name="textAreaRight" fmla="*/ 1022040 w 1022040"/>
                        <a:gd name="textAreaTop" fmla="*/ 0 h 603360"/>
                        <a:gd name="textAreaBottom" fmla="*/ 603720 h 603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72880"/>
                      <a:ext cx="1730880" cy="26712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7120"/>
                        <a:gd name="textAreaBottom" fmla="*/ 267480 h 267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30960" cy="423000"/>
                    </a:xfrm>
                    <a:custGeom>
                      <a:avLst/>
                      <a:gdLst>
                        <a:gd name="textAreaLeft" fmla="*/ 360 w 930960"/>
                        <a:gd name="textAreaRight" fmla="*/ 931680 w 93096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22440"/>
                    <a:ext cx="2364840" cy="787320"/>
                    <a:chOff x="2760480" y="1522440"/>
                    <a:chExt cx="236484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940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9400"/>
                        <a:gd name="textAreaBottom" fmla="*/ 419760 h 419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560" y="1236600"/>
                    <a:ext cx="2324520" cy="1083600"/>
                    <a:chOff x="2887560" y="1236600"/>
                    <a:chExt cx="2324520" cy="108360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680" y="1786680"/>
                      <a:ext cx="1520280" cy="26604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6040"/>
                        <a:gd name="textAreaBottom" fmla="*/ 266400 h 266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720" y="1370520"/>
                      <a:ext cx="816480" cy="41508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800" y="831240"/>
                    <a:ext cx="2170440" cy="1507680"/>
                    <a:chOff x="3160800" y="831240"/>
                    <a:chExt cx="2170440" cy="150768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6040" y="1672560"/>
                      <a:ext cx="1519200" cy="26604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6040"/>
                        <a:gd name="textAreaBottom" fmla="*/ 266400 h 266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6520" y="1023120"/>
                      <a:ext cx="816120" cy="4147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4720"/>
                        <a:gd name="textAreaBottom" fmla="*/ 415080 h 414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240"/>
                        <a:gd name="textAreaBottom" fmla="*/ 417600 h 417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680" y="335520"/>
                    <a:ext cx="1460520" cy="1886040"/>
                    <a:chOff x="4027680" y="335520"/>
                    <a:chExt cx="1460520" cy="188604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200" y="1443600"/>
                      <a:ext cx="1357560" cy="264600"/>
                    </a:xfrm>
                    <a:custGeom>
                      <a:avLst/>
                      <a:gdLst>
                        <a:gd name="textAreaLeft" fmla="*/ -360 w 1357560"/>
                        <a:gd name="textAreaRight" fmla="*/ 1357560 w 1357560"/>
                        <a:gd name="textAreaTop" fmla="*/ 0 h 264600"/>
                        <a:gd name="textAreaBottom" fmla="*/ 264960 h 264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3800" y="545400"/>
                      <a:ext cx="727200" cy="416880"/>
                    </a:xfrm>
                    <a:custGeom>
                      <a:avLst/>
                      <a:gdLst>
                        <a:gd name="textAreaLeft" fmla="*/ 360 w 727200"/>
                        <a:gd name="textAreaRight" fmla="*/ 727920 w 7272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520" y="245520"/>
                    <a:ext cx="1121760" cy="1946160"/>
                    <a:chOff x="4448520" y="245520"/>
                    <a:chExt cx="1121760" cy="194616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3640" y="1399680"/>
                      <a:ext cx="1310400" cy="265680"/>
                    </a:xfrm>
                    <a:custGeom>
                      <a:avLst/>
                      <a:gdLst>
                        <a:gd name="textAreaLeft" fmla="*/ 360 w 1310400"/>
                        <a:gd name="textAreaRight" fmla="*/ 1311120 w 1310400"/>
                        <a:gd name="textAreaTop" fmla="*/ 0 h 265680"/>
                        <a:gd name="textAreaBottom" fmla="*/ 266040 h 265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8280" y="439560"/>
                      <a:ext cx="701280" cy="416160"/>
                    </a:xfrm>
                    <a:custGeom>
                      <a:avLst/>
                      <a:gdLst>
                        <a:gd name="textAreaLeft" fmla="*/ 360 w 701280"/>
                        <a:gd name="textAreaRight" fmla="*/ 702000 w 7012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360" y="952560"/>
                    <a:ext cx="2317320" cy="1111680"/>
                    <a:chOff x="5661360" y="952560"/>
                    <a:chExt cx="2317320" cy="111168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240" y="1523160"/>
                      <a:ext cx="1517760" cy="264960"/>
                    </a:xfrm>
                    <a:custGeom>
                      <a:avLst/>
                      <a:gdLst>
                        <a:gd name="textAreaLeft" fmla="*/ 0 w 1517760"/>
                        <a:gd name="textAreaRight" fmla="*/ 1518120 w 151776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2520" y="1090800"/>
                      <a:ext cx="817200" cy="419040"/>
                    </a:xfrm>
                    <a:custGeom>
                      <a:avLst/>
                      <a:gdLst>
                        <a:gd name="textAreaLeft" fmla="*/ 0 w 817200"/>
                        <a:gd name="textAreaRight" fmla="*/ 817560 w 817200"/>
                        <a:gd name="textAreaTop" fmla="*/ 0 h 419040"/>
                        <a:gd name="textAreaBottom" fmla="*/ 419400 h 419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>
                        <a:gd name="textAreaLeft" fmla="*/ 0 w 1518840"/>
                        <a:gd name="textAreaRight" fmla="*/ 1519200 w 1518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>
                      <a:gd name="textAreaLeft" fmla="*/ -360 w 1264680"/>
                      <a:gd name="textAreaRight" fmla="*/ 1264680 w 126468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196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360"/>
                    <a:ext cx="1196280" cy="1900440"/>
                    <a:chOff x="5355720" y="270360"/>
                    <a:chExt cx="1196280" cy="190044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080" y="1418400"/>
                      <a:ext cx="1310400" cy="225720"/>
                    </a:xfrm>
                    <a:custGeom>
                      <a:avLst/>
                      <a:gdLst>
                        <a:gd name="textAreaLeft" fmla="*/ 0 w 1310400"/>
                        <a:gd name="textAreaRight" fmla="*/ 1310760 w 1310400"/>
                        <a:gd name="textAreaTop" fmla="*/ 0 h 225720"/>
                        <a:gd name="textAreaBottom" fmla="*/ 226080 h 2257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880" y="485640"/>
                      <a:ext cx="701640" cy="354600"/>
                    </a:xfrm>
                    <a:custGeom>
                      <a:avLst/>
                      <a:gdLst>
                        <a:gd name="textAreaLeft" fmla="*/ 0 w 701640"/>
                        <a:gd name="textAreaRight" fmla="*/ 702000 w 701640"/>
                        <a:gd name="textAreaTop" fmla="*/ 0 h 354600"/>
                        <a:gd name="textAreaBottom" fmla="*/ 354960 h 354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080" y="387360"/>
                    <a:ext cx="1892520" cy="1798200"/>
                    <a:chOff x="5347080" y="387360"/>
                    <a:chExt cx="1892520" cy="179820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6640" y="1388880"/>
                      <a:ext cx="1425960" cy="332280"/>
                    </a:xfrm>
                    <a:custGeom>
                      <a:avLst/>
                      <a:gdLst>
                        <a:gd name="textAreaLeft" fmla="*/ 0 w 1425960"/>
                        <a:gd name="textAreaRight" fmla="*/ 1426320 w 1425960"/>
                        <a:gd name="textAreaTop" fmla="*/ 0 h 332280"/>
                        <a:gd name="textAreaBottom" fmla="*/ 332640 h 332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0080" y="583560"/>
                      <a:ext cx="767880" cy="526680"/>
                    </a:xfrm>
                    <a:custGeom>
                      <a:avLst/>
                      <a:gdLst>
                        <a:gd name="textAreaLeft" fmla="*/ 0 w 767880"/>
                        <a:gd name="textAreaRight" fmla="*/ 768240 w 767880"/>
                        <a:gd name="textAreaTop" fmla="*/ 0 h 526680"/>
                        <a:gd name="textAreaBottom" fmla="*/ 527040 h 5266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320"/>
                    <a:ext cx="426960" cy="1796040"/>
                    <a:chOff x="5458320" y="292320"/>
                    <a:chExt cx="426960" cy="179604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600" y="1445040"/>
                      <a:ext cx="1175760" cy="10692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6920"/>
                        <a:gd name="textAreaBottom" fmla="*/ 107280 h 106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1040" y="532440"/>
                      <a:ext cx="631080" cy="16812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8120"/>
                        <a:gd name="textAreaBottom" fmla="*/ 168480 h 168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6000" cy="3002400"/>
                    <a:chOff x="3062880" y="2530440"/>
                    <a:chExt cx="2196000" cy="30024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8560" y="3314880"/>
                      <a:ext cx="2127960" cy="385560"/>
                    </a:xfrm>
                    <a:custGeom>
                      <a:avLst/>
                      <a:gdLst>
                        <a:gd name="textAreaLeft" fmla="*/ -360 w 2127960"/>
                        <a:gd name="textAreaRight" fmla="*/ 2127960 w 212796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360" y="4592880"/>
                      <a:ext cx="1139040" cy="60264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49960"/>
                    <a:ext cx="1481760" cy="2999520"/>
                    <a:chOff x="3791520" y="2649960"/>
                    <a:chExt cx="1481760" cy="299952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8960" y="3438000"/>
                      <a:ext cx="1963440" cy="385920"/>
                    </a:xfrm>
                    <a:custGeom>
                      <a:avLst/>
                      <a:gdLst>
                        <a:gd name="textAreaLeft" fmla="*/ 360 w 1963440"/>
                        <a:gd name="textAreaRight" fmla="*/ 1964160 w 1963440"/>
                        <a:gd name="textAreaTop" fmla="*/ 0 h 385920"/>
                        <a:gd name="textAreaBottom" fmla="*/ 386280 h 385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2920" y="4746960"/>
                      <a:ext cx="1054440" cy="601200"/>
                    </a:xfrm>
                    <a:custGeom>
                      <a:avLst/>
                      <a:gdLst>
                        <a:gd name="textAreaLeft" fmla="*/ -360 w 1054440"/>
                        <a:gd name="textAreaRight" fmla="*/ 1054440 w 1054440"/>
                        <a:gd name="textAreaTop" fmla="*/ 0 h 601200"/>
                        <a:gd name="textAreaBottom" fmla="*/ 601560 h 6012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600"/>
                    <a:ext cx="874440" cy="2926800"/>
                    <a:chOff x="4509000" y="2703600"/>
                    <a:chExt cx="874440" cy="292680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9600" y="3490200"/>
                      <a:ext cx="1885320" cy="342720"/>
                    </a:xfrm>
                    <a:custGeom>
                      <a:avLst/>
                      <a:gdLst>
                        <a:gd name="textAreaLeft" fmla="*/ -360 w 1885320"/>
                        <a:gd name="textAreaRight" fmla="*/ 1885320 w 1885320"/>
                        <a:gd name="textAreaTop" fmla="*/ 0 h 342720"/>
                        <a:gd name="textAreaBottom" fmla="*/ 343080 h 3427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880" y="4808160"/>
                      <a:ext cx="1012680" cy="545040"/>
                    </a:xfrm>
                    <a:custGeom>
                      <a:avLst/>
                      <a:gdLst>
                        <a:gd name="textAreaLeft" fmla="*/ -360 w 1012680"/>
                        <a:gd name="textAreaRight" fmla="*/ 1012680 w 1012680"/>
                        <a:gd name="textAreaTop" fmla="*/ 0 h 545040"/>
                        <a:gd name="textAreaBottom" fmla="*/ 545400 h 545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200" y="2482920"/>
                    <a:ext cx="2280960" cy="2953080"/>
                    <a:chOff x="5677200" y="2482920"/>
                    <a:chExt cx="2280960" cy="295308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800"/>
                      <a:ext cx="2129040" cy="386640"/>
                    </a:xfrm>
                    <a:custGeom>
                      <a:avLst/>
                      <a:gdLst>
                        <a:gd name="textAreaLeft" fmla="*/ 0 w 2129040"/>
                        <a:gd name="textAreaRight" fmla="*/ 2129400 w 2129040"/>
                        <a:gd name="textAreaTop" fmla="*/ 0 h 386640"/>
                        <a:gd name="textAreaBottom" fmla="*/ 387000 h 386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2920" y="4500360"/>
                      <a:ext cx="1138680" cy="601560"/>
                    </a:xfrm>
                    <a:custGeom>
                      <a:avLst/>
                      <a:gdLst>
                        <a:gd name="textAreaLeft" fmla="*/ 0 w 1138680"/>
                        <a:gd name="textAreaRight" fmla="*/ 1139040 w 1138680"/>
                        <a:gd name="textAreaTop" fmla="*/ 0 h 601560"/>
                        <a:gd name="textAreaBottom" fmla="*/ 601560 h 601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760" y="2592360"/>
                    <a:ext cx="1757520" cy="3035160"/>
                    <a:chOff x="5648760" y="2592360"/>
                    <a:chExt cx="1757520" cy="303516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7880" y="3393000"/>
                      <a:ext cx="2033280" cy="373320"/>
                    </a:xfrm>
                    <a:custGeom>
                      <a:avLst/>
                      <a:gdLst>
                        <a:gd name="textAreaLeft" fmla="*/ 0 w 2033280"/>
                        <a:gd name="textAreaRight" fmla="*/ 2033640 w 2033280"/>
                        <a:gd name="textAreaTop" fmla="*/ 0 h 373320"/>
                        <a:gd name="textAreaBottom" fmla="*/ 373680 h 373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48600" y="4716000"/>
                      <a:ext cx="1091520" cy="584640"/>
                    </a:xfrm>
                    <a:custGeom>
                      <a:avLst/>
                      <a:gdLst>
                        <a:gd name="textAreaLeft" fmla="*/ 0 w 1091520"/>
                        <a:gd name="textAreaRight" fmla="*/ 1091880 w 1091520"/>
                        <a:gd name="textAreaTop" fmla="*/ 0 h 584640"/>
                        <a:gd name="textAreaBottom" fmla="*/ 584640 h 584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040"/>
                      <a:ext cx="1972080" cy="302760"/>
                    </a:xfrm>
                    <a:custGeom>
                      <a:avLst/>
                      <a:gdLst>
                        <a:gd name="textAreaLeft" fmla="*/ 0 w 1972080"/>
                        <a:gd name="textAreaRight" fmla="*/ 1972440 w 1972080"/>
                        <a:gd name="textAreaTop" fmla="*/ 0 h 302760"/>
                        <a:gd name="textAreaBottom" fmla="*/ 303120 h 302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>
                        <a:gd name="textAreaLeft" fmla="*/ 0 w 1059480"/>
                        <a:gd name="textAreaRight" fmla="*/ 1059840 w 1059480"/>
                        <a:gd name="textAreaTop" fmla="*/ 0 h 474840"/>
                        <a:gd name="textAreaBottom" fmla="*/ 475200 h 474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680" y="2840760"/>
                    <a:ext cx="696960" cy="2777400"/>
                    <a:chOff x="552168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7440" y="3606840"/>
                      <a:ext cx="1811160" cy="303120"/>
                    </a:xfrm>
                    <a:custGeom>
                      <a:avLst/>
                      <a:gdLst>
                        <a:gd name="textAreaLeft" fmla="*/ 0 w 1811160"/>
                        <a:gd name="textAreaRight" fmla="*/ 1811520 w 181116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920" y="4864680"/>
                      <a:ext cx="972720" cy="475560"/>
                    </a:xfrm>
                    <a:custGeom>
                      <a:avLst/>
                      <a:gdLst>
                        <a:gd name="textAreaLeft" fmla="*/ 0 w 972720"/>
                        <a:gd name="textAreaRight" fmla="*/ 973080 w 97272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280" cy="4521240"/>
                <a:chOff x="2175480" y="682560"/>
                <a:chExt cx="673128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280" cy="4521240"/>
                  <a:chOff x="2175480" y="682560"/>
                  <a:chExt cx="673128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3080" y="857880"/>
                    <a:ext cx="3163680" cy="2523960"/>
                  </a:xfrm>
                  <a:custGeom>
                    <a:avLst/>
                    <a:gdLst>
                      <a:gd name="textAreaLeft" fmla="*/ 0 w 3163680"/>
                      <a:gd name="textAreaRight" fmla="*/ 3164040 w 3163680"/>
                      <a:gd name="textAreaTop" fmla="*/ -360 h 2523960"/>
                      <a:gd name="textAreaBottom" fmla="*/ 2523960 h 252396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>
                      <a:gd name="textAreaLeft" fmla="*/ 360 w 2485440"/>
                      <a:gd name="textAreaRight" fmla="*/ 2486160 w 24854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20840" y="1752840"/>
                    <a:ext cx="1757160" cy="2934360"/>
                  </a:xfrm>
                  <a:custGeom>
                    <a:avLst/>
                    <a:gdLst>
                      <a:gd name="textAreaLeft" fmla="*/ 0 w 1757160"/>
                      <a:gd name="textAreaRight" fmla="*/ 1757520 w 175716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7800"/>
                    <a:ext cx="3134160" cy="2934360"/>
                  </a:xfrm>
                  <a:custGeom>
                    <a:avLst/>
                    <a:gdLst>
                      <a:gd name="textAreaLeft" fmla="*/ 360 w 3134160"/>
                      <a:gd name="textAreaRight" fmla="*/ 3134880 w 313416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92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3240" y="1875960"/>
                    <a:ext cx="942840" cy="2840760"/>
                  </a:xfrm>
                  <a:custGeom>
                    <a:avLst/>
                    <a:gdLst>
                      <a:gd name="textAreaLeft" fmla="*/ 0 w 942840"/>
                      <a:gd name="textAreaRight" fmla="*/ 943200 w 94284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6320" y="836280"/>
                    <a:ext cx="514800" cy="1879200"/>
                  </a:xfrm>
                  <a:custGeom>
                    <a:avLst/>
                    <a:gdLst>
                      <a:gd name="textAreaLeft" fmla="*/ 360 w 514800"/>
                      <a:gd name="textAreaRight" fmla="*/ 515520 w 51480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3280" y="2579760"/>
                <a:ext cx="2613960" cy="2841120"/>
              </a:xfrm>
              <a:custGeom>
                <a:avLst/>
                <a:gdLst>
                  <a:gd name="textAreaLeft" fmla="*/ -360 w 2613960"/>
                  <a:gd name="textAreaRight" fmla="*/ 2613960 w 261396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4640" y="2122200"/>
                <a:ext cx="1536120" cy="2934000"/>
              </a:xfrm>
              <a:custGeom>
                <a:avLst/>
                <a:gdLst>
                  <a:gd name="textAreaLeft" fmla="*/ -360 w 1536120"/>
                  <a:gd name="textAreaRight" fmla="*/ 1536120 w 153612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>
                  <a:gd name="textAreaLeft" fmla="*/ 360 w 856800"/>
                  <a:gd name="textAreaRight" fmla="*/ 857520 w 85680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7880"/>
                <a:ext cx="1241640" cy="197280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2800"/>
                  <a:gd name="textAreaBottom" fmla="*/ 1973160 h 1972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>
                  <a:gd name="textAreaLeft" fmla="*/ 0 w 1873080"/>
                  <a:gd name="textAreaRight" fmla="*/ 1873440 w 187308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86B9-7283-414B-9DDF-FFA5D6470ECA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C:\Users\котик\Desktop\417.jpg"/>
          <p:cNvPicPr/>
          <p:nvPr/>
        </p:nvPicPr>
        <p:blipFill>
          <a:blip r:embed="rId3"/>
          <a:stretch/>
        </p:blipFill>
        <p:spPr>
          <a:xfrm>
            <a:off x="-1143000" y="-857160"/>
            <a:ext cx="11430000" cy="85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417672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d9902"/>
                </a:solidFill>
                <a:latin typeface="Arial Black"/>
              </a:rPr>
              <a:t>Александр Иванович Покрышкин – первый трижды герой Советского Союза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2" name="Picture 4" descr="http://global-shoping.ru/preview/1089342/p1_10209122439930.jpg"/>
          <p:cNvPicPr/>
          <p:nvPr/>
        </p:nvPicPr>
        <p:blipFill>
          <a:blip r:embed="rId1"/>
          <a:stretch/>
        </p:blipFill>
        <p:spPr>
          <a:xfrm>
            <a:off x="611280" y="4437000"/>
            <a:ext cx="1224000" cy="16560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http://global-shoping.ru/preview/1089342/p1_10209122439930.jpg"/>
          <p:cNvPicPr/>
          <p:nvPr/>
        </p:nvPicPr>
        <p:blipFill>
          <a:blip r:embed="rId2"/>
          <a:stretch/>
        </p:blipFill>
        <p:spPr>
          <a:xfrm>
            <a:off x="1547640" y="4437000"/>
            <a:ext cx="1224000" cy="16560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http://global-shoping.ru/preview/1089342/p1_10209122439930.jpg"/>
          <p:cNvPicPr/>
          <p:nvPr/>
        </p:nvPicPr>
        <p:blipFill>
          <a:blip r:embed="rId3"/>
          <a:stretch/>
        </p:blipFill>
        <p:spPr>
          <a:xfrm>
            <a:off x="2484360" y="4437000"/>
            <a:ext cx="1224000" cy="16560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066920" y="5373360"/>
            <a:ext cx="4321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Arial Black"/>
              </a:rPr>
              <a:t>  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Москва. Новодевичье кладбище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Скончался 13 ноября 1985 года. Похоронен в городе-герое Москве на Новодевичьем кладбище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8" name="Picture 7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3205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Источники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Авиация: Энциклопедия. - М.: Большая Российская энциклопедия, 1994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Великая Отечественная война 1941-1945: События. Люди. Документы.-Политизд.199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Во имя Родины. - Изд. 2-е. - М., 1982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Военные лётчики: Асы второй мировой войны. - Минск: "Литература", 1997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Герои Великой Отечественной войны. Выпуск IV. 1974 г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Герои Советского Союза. Краткий биографический словарь. Т.2. М., 1988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Голубев Г.Г. В паре с "сотым". - Изд. 2-е, доп. - М.: Воениздат, 1978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Звёзды доблести ратной. Новосибирск: Новосибирское кн. изд. 1986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Люди бессмертного подвига. Книга 2. М., 1975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Мирный И.А. Имя в истории, история в имени. Пятигорск, 200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Небо в огне. - Днепропетровск: "Промiнь", 1985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Тимофеев А.В. Покрышкин. 2-е изд. (ЖЗЛ) М., 2005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Устинов Ю. Первый трижды Герой СССР /Крылья Родины.2001.№5./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крышкин Александр Иванович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3814560" cy="41148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Лётчик-истребитель; первый трижды Герой Советского Союза. Родился 6 марта в г.Новониколаевске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В РККА с 1932 года. В 1933 году окончил 3-ю Пермскую военную школу авиационных техников, в 1934 - Ленинградскую военно-теоретическию авиашколу. Служил техником звена связи 74-й стрелковой дивизии, дислоцировавшейся в Краснодаре. Одновременно учился в Краснодарском аэроклубе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Picture 7" descr=""/>
          <p:cNvPicPr/>
          <p:nvPr/>
        </p:nvPicPr>
        <p:blipFill>
          <a:blip r:embed="rId1"/>
          <a:stretch/>
        </p:blipFill>
        <p:spPr>
          <a:xfrm>
            <a:off x="1085760" y="1981080"/>
            <a:ext cx="3009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5" descr="C:\Users\котик\Desktop\Gj9sIyuttPo8ggv9QyaodLEWgQFknVYZAngtEaC7Nr1MrfXH0YDQSVkOMs3sxUDaZVj07Lab4CNVTYgx2ceroD_J6CAZmXCu3VIfjeCUboczJZOyF4vEa7KsyYDQrBTZXD8nA1Y0ts8dGeFfDMdROMZoQ1yj2RdwJj7IEHlxGkI8iTixWc8Gm1zB3A4xlzxkc9Xh8rV5xKjCHM-BYRy13Z9t.png"/>
          <p:cNvPicPr/>
          <p:nvPr/>
        </p:nvPicPr>
        <p:blipFill>
          <a:blip r:embed="rId2"/>
          <a:stretch/>
        </p:blipFill>
        <p:spPr>
          <a:xfrm>
            <a:off x="684360" y="404640"/>
            <a:ext cx="7920000" cy="6193080"/>
          </a:xfrm>
          <a:prstGeom prst="rect">
            <a:avLst/>
          </a:prstGeom>
          <a:ln w="0">
            <a:noFill/>
          </a:ln>
        </p:spPr>
      </p:pic>
      <p:pic>
        <p:nvPicPr>
          <p:cNvPr id="363" name="Ю. Б. Левитан - 22 июня. Сообщение о начале войны..mp3" descr=""/>
          <p:cNvPicPr/>
          <p:nvPr/>
        </p:nvPicPr>
        <p:blipFill>
          <a:blip r:embed="rId3"/>
          <a:stretch/>
        </p:blipFill>
        <p:spPr>
          <a:xfrm>
            <a:off x="90000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3381" fill="hold"/>
                                        <p:tgtEl>
                                          <p:spTgt spid="3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Истребитель МиГ-3.  На такой машине А.И. Покрышкин встретил войну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4716360" y="260280"/>
            <a:ext cx="3959280" cy="40323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" descr="А.И.Покрышкин"/>
          <p:cNvPicPr/>
          <p:nvPr/>
        </p:nvPicPr>
        <p:blipFill>
          <a:blip r:embed="rId2"/>
          <a:stretch/>
        </p:blipFill>
        <p:spPr>
          <a:xfrm>
            <a:off x="3419640" y="4005360"/>
            <a:ext cx="30240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На фронтах Великой Отечественной войны с первого дня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8" name="Picture 6" descr=""/>
          <p:cNvPicPr/>
          <p:nvPr/>
        </p:nvPicPr>
        <p:blipFill>
          <a:blip r:embed="rId1"/>
          <a:stretch/>
        </p:blipFill>
        <p:spPr>
          <a:xfrm>
            <a:off x="4643280" y="1981080"/>
            <a:ext cx="3814920" cy="41148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684360" y="1989000"/>
            <a:ext cx="3814560" cy="41148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"/>
          <p:cNvPicPr/>
          <p:nvPr/>
        </p:nvPicPr>
        <p:blipFill>
          <a:blip r:embed="rId3"/>
          <a:stretch/>
        </p:blipFill>
        <p:spPr>
          <a:xfrm>
            <a:off x="4643280" y="1989000"/>
            <a:ext cx="3814920" cy="41148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"/>
          <p:cNvPicPr/>
          <p:nvPr/>
        </p:nvPicPr>
        <p:blipFill>
          <a:blip r:embed="rId4"/>
          <a:stretch/>
        </p:blipFill>
        <p:spPr>
          <a:xfrm>
            <a:off x="611280" y="1916280"/>
            <a:ext cx="3814560" cy="4114800"/>
          </a:xfrm>
          <a:prstGeom prst="rect">
            <a:avLst/>
          </a:prstGeom>
          <a:ln w="0">
            <a:noFill/>
          </a:ln>
        </p:spPr>
      </p:pic>
      <p:pic>
        <p:nvPicPr>
          <p:cNvPr id="372" name="песня летчиков.mp3" descr=""/>
          <p:cNvPicPr/>
          <p:nvPr/>
        </p:nvPicPr>
        <p:blipFill>
          <a:blip r:embed="rId5"/>
          <a:stretch/>
        </p:blipFill>
        <p:spPr>
          <a:xfrm>
            <a:off x="6300720" y="5373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65006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-48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50560" y="692280"/>
            <a:ext cx="439236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aaaaa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ru-RU" sz="2200" spc="-1" strike="noStrike">
                <a:solidFill>
                  <a:srgbClr val="ffcc00"/>
                </a:solidFill>
                <a:latin typeface="Arial Black"/>
              </a:rPr>
              <a:t>Летать приходилось до 5 раз в день. Немецкие лётчики,  при встрече с нашим асом, вскоре на- чали предупреждать друг друга о его появ- лении - "Внимание !   В воздухе Покрышкин !". Лишь за неделю боёв он лично сбил 6 самолётов врага, а лётчики его эскадрильи - 29 !</a:t>
            </a:r>
            <a:endParaRPr b="0" lang="en-US" sz="2200" spc="-1" strike="noStrike">
              <a:solidFill>
                <a:srgbClr val="ffcc00"/>
              </a:solidFill>
              <a:latin typeface="Arial Black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aaaaa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4932360" y="1916280"/>
            <a:ext cx="36720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Формула Покрышкина:</a:t>
            </a:r>
            <a:br>
              <a:rPr sz="1800"/>
            </a:b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«Высота, скорость, манёвр, огонь»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аэрокобра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7" name="Picture 3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Он стал первым трижды Героем Советского Союза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0" name="Picture 7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3125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5:54:01Z</dcterms:created>
  <dc:creator>Семья</dc:creator>
  <dc:description/>
  <dc:language>en-US</dc:language>
  <cp:lastModifiedBy>котик</cp:lastModifiedBy>
  <dcterms:modified xsi:type="dcterms:W3CDTF">2025-09-29T06:18:56Z</dcterms:modified>
  <cp:revision>28</cp:revision>
  <dc:subject/>
  <dc:title>Покрышкин</dc:title>
</cp:coreProperties>
</file>